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F85A-9E9B-4176-BF00-93FE2F41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A8348-B098-4F74-BAA5-C2CC38733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FEEB0-81F0-490E-A2E9-DFA752EB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96F4-FEE2-439C-8D98-5735CF67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3B17-7B28-49A4-9419-D9A68549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EDD8-FC4C-4802-9CDD-554BB98A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A02C-D0CC-44E4-BF61-E16B538D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99E5-16B4-4095-9BC0-54C6E53B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6539-5383-49DB-A62D-B39B902F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417B-AD4A-453B-9D24-F4E50148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6B37-3CB9-46BA-9538-E3749FA3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EE6B6-041D-43EF-85F5-6E4FAD54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3A72-AEEE-49DA-A7FF-81469B58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C5F2-06B7-4EE8-9CDB-837C3EF8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FC08-5050-4DB9-AD8B-E24434E33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4C75-CF58-4823-90CC-88090067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377B-DD7A-45A9-88B5-0D869DE9C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D4FE0-1A2F-4F07-93A7-3E527EA0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8B3F0-84BD-4858-84A0-604E41EE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0793C-5022-4F59-995D-3DA6393F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ACDF5-3F6D-4FE7-A574-F4FA7647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DADBE-AE45-4231-9133-7EC76A51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860B9-85B0-439E-8796-962880E0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D3D6-5123-4E75-B723-BAEC3649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49A1-4762-4831-80DE-FA762D2798D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330B-EA9F-4E8B-B29D-9EAB079FD4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rious Messeng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1120" y="3024360"/>
            <a:ext cx="698652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erious about delivering mess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Kevin Scrog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rey Faib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k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featured instant messaging client designed in Ja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ble of running on multiple platf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interactive and user-friendly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-designed back-end protocol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ent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rname, Nickname, Status, Contact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Pro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, E-Mail, Location, Gender, Birthday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izable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/Delete/Block Cont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 Files (Time Permitt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rver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Authenticates various client cha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(ie. login, password, adding contacts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onnecting Cli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lient Information Stor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ata stored using SQL Server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Interactive GUI for monitoring/debug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liable, customizable, user-friendly, fully-featured instant messaging cl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cution P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557360"/>
          <a:ext cx="8424720" cy="5084640"/>
        </p:xfrm>
        <a:graphic>
          <a:graphicData uri="http://schemas.openxmlformats.org/drawingml/2006/table">
            <a:tbl>
              <a:tblPr/>
              <a:tblGrid>
                <a:gridCol w="5256360"/>
                <a:gridCol w="3168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ion 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cke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col 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abase Managemen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Ser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tworking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Clien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lf-Done (Nov 1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ensive Tes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ra Features + Finishing Touches (Time Permittin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cember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1:09:36Z</dcterms:created>
  <dc:creator>Kevin Scroggins</dc:creator>
  <dc:description/>
  <dc:language>en-US</dc:language>
  <cp:lastModifiedBy>Kevin Scroggins</cp:lastModifiedBy>
  <dcterms:modified xsi:type="dcterms:W3CDTF">2010-11-02T13:00:01Z</dcterms:modified>
  <cp:revision>5</cp:revision>
  <dc:subject/>
  <dc:title>Serious Messenger</dc:title>
</cp:coreProperties>
</file>